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aching Re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Bruce Alb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35(6067):380-3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7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03520" y="1079640"/>
            <a:ext cx="30765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3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uce Alberts Science 2012;335: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62080" y="1079640"/>
            <a:ext cx="59612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620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uce Alberts Science 2012;335: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