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ight through a simulated atmosphere.A flashlight beam through a container of water with varying amounts of milk.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No milk,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two drops,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six drops, and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eight dr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olar ovens constructed by students.The black one reaches a higher temperature. Both were capable of baking cook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nquiry-Based Curriculum for Nonmaj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David P. Jackson, Priscilla W. Laws, and Scott V. Frank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35(6067):418-4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27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ght through a simulated atmosphere.A flashlight beam through a container of water with varying amounts of mil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5400" y="1079640"/>
            <a:ext cx="80960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5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P. Jackson et al. Science 2012;335:418-4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85880" y="1079640"/>
            <a:ext cx="491508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858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P. Jackson et al. Science 2012;335:418-4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lar ovens constructed by students.The black one reaches a higher temperat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41360" y="1079640"/>
            <a:ext cx="740088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413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P. Jackson et al. Science 2012;335:418-4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43360" y="1079640"/>
            <a:ext cx="419724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4336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P. Jackson et al. Science 2012;335:418-4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46240" y="1079640"/>
            <a:ext cx="419436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46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P. Jackson et al. Science 2012;335:418-4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946240" y="1079640"/>
            <a:ext cx="419436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46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P. Jackson et al. Science 2012;335:418-4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2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