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committee is no longer in charge—I am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ll the negative committee to shu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Fanuel Muin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45(6194):350-3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ly 18,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4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committee is no longer in charge—I am.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98000" y="6746760"/>
            <a:ext cx="1303200" cy="56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52640" y="1079640"/>
            <a:ext cx="61815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526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anuel Muindi Science 2014;345:3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09128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14, American Association for the Advancement of Sci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