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ther (wither?) ten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arcia McNu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50(6266):1295-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cember 11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5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17680" y="1079640"/>
            <a:ext cx="5450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17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cia McNutt Science 2015;350:12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5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43160" y="1079640"/>
            <a:ext cx="55976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431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cia McNutt Science 2015;350:12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5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